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E6B-A1A9-44BE-B930-110CD6B9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573-17CC-4AB1-89E9-B34F402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9E7-AB1D-4451-BF00-FF18408A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75E-48BE-4FAE-9240-74D5A9CC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2C4-E0AB-4D18-BDCB-4311AFA9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834-F4C9-485D-B029-853608B8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249-A864-4A9E-B1CD-98668CA3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96B-A4C5-4832-9963-3CAC69C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949-B8C5-4994-A703-B13FF34C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6CE-F01A-45BC-B843-B8A13A3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C3B-3632-47C5-A961-13FC4548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625-C9CA-40C6-BE6E-1613F1E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F95-D50A-4679-B3C5-DA4A0525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9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ome Tax Calcul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: Introduc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-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x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Multiple-Selection Statemen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90480" y="1414440"/>
          <a:ext cx="773748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14440"/>
                    <a:ext cx="773748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55840" y="2795760"/>
            <a:ext cx="623088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3280" y="1447920"/>
            <a:ext cx="70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contain the tax rate and the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09480" y="3886200"/>
            <a:ext cx="1981440" cy="1875960"/>
            <a:chOff x="609480" y="3886200"/>
            <a:chExt cx="1981440" cy="1875960"/>
          </a:xfrm>
        </p:grpSpPr>
        <p:sp>
          <p:nvSpPr>
            <p:cNvPr id="74" name=""/>
            <p:cNvSpPr/>
            <p:nvPr/>
          </p:nvSpPr>
          <p:spPr>
            <a:xfrm>
              <a:off x="609480" y="5181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 to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9480" y="3886200"/>
              <a:ext cx="1752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55840" y="2881440"/>
            <a:ext cx="6230880" cy="196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5080" y="1447920"/>
            <a:ext cx="62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3886200"/>
            <a:ext cx="2438280" cy="1875960"/>
            <a:chOff x="457200" y="3886200"/>
            <a:chExt cx="2438280" cy="1875960"/>
          </a:xfrm>
        </p:grpSpPr>
        <p:sp>
          <p:nvSpPr>
            <p:cNvPr id="80" name=""/>
            <p:cNvSpPr/>
            <p:nvPr/>
          </p:nvSpPr>
          <p:spPr>
            <a:xfrm>
              <a:off x="457200" y="5181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year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57200" y="3886200"/>
              <a:ext cx="1828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50800" y="2376360"/>
            <a:ext cx="6240600" cy="29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6520" y="1461960"/>
            <a:ext cx="56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o the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9880" y="4343040"/>
            <a:ext cx="4191120" cy="1724040"/>
            <a:chOff x="3809880" y="4343040"/>
            <a:chExt cx="4191120" cy="1724040"/>
          </a:xfrm>
        </p:grpSpPr>
        <p:sp>
          <p:nvSpPr>
            <p:cNvPr id="86" name=""/>
            <p:cNvSpPr/>
            <p:nvPr/>
          </p:nvSpPr>
          <p:spPr>
            <a:xfrm>
              <a:off x="4952880" y="5486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n error message if the user enters an invalid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809880" y="434304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50800" y="2862360"/>
            <a:ext cx="6240600" cy="2000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5440" y="1461960"/>
            <a:ext cx="53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o the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2133720"/>
            <a:ext cx="2210040" cy="1523880"/>
            <a:chOff x="380880" y="2133720"/>
            <a:chExt cx="2210040" cy="1523880"/>
          </a:xfrm>
        </p:grpSpPr>
        <p:sp>
          <p:nvSpPr>
            <p:cNvPr id="92" name=""/>
            <p:cNvSpPr/>
            <p:nvPr/>
          </p:nvSpPr>
          <p:spPr>
            <a:xfrm>
              <a:off x="380880" y="2133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743200"/>
              <a:ext cx="2210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50800" y="295740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3280" y="1461960"/>
            <a:ext cx="55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bel to the switch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191120" y="4114800"/>
            <a:ext cx="3276360" cy="1495080"/>
            <a:chOff x="4191120" y="4114800"/>
            <a:chExt cx="3276360" cy="1495080"/>
          </a:xfrm>
        </p:grpSpPr>
        <p:sp>
          <p:nvSpPr>
            <p:cNvPr id="98" name=""/>
            <p:cNvSpPr/>
            <p:nvPr/>
          </p:nvSpPr>
          <p:spPr>
            <a:xfrm>
              <a:off x="4876920" y="50292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he tax rate to 1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less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191120" y="41148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50800" y="1905120"/>
            <a:ext cx="6240600" cy="420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3280" y="1461960"/>
            <a:ext cx="44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91320" y="1371600"/>
            <a:ext cx="2971800" cy="1371600"/>
            <a:chOff x="5791320" y="1371600"/>
            <a:chExt cx="2971800" cy="1371600"/>
          </a:xfrm>
        </p:grpSpPr>
        <p:sp>
          <p:nvSpPr>
            <p:cNvPr id="104" name=""/>
            <p:cNvSpPr/>
            <p:nvPr/>
          </p:nvSpPr>
          <p:spPr>
            <a:xfrm>
              <a:off x="5791320" y="1371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ax rate to 2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629760" y="1981080"/>
              <a:ext cx="2133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8600" y="1828800"/>
            <a:ext cx="2590920" cy="1752480"/>
            <a:chOff x="228600" y="1828800"/>
            <a:chExt cx="2590920" cy="1752480"/>
          </a:xfrm>
        </p:grpSpPr>
        <p:sp>
          <p:nvSpPr>
            <p:cNvPr id="107" name=""/>
            <p:cNvSpPr/>
            <p:nvPr/>
          </p:nvSpPr>
          <p:spPr>
            <a:xfrm>
              <a:off x="228600" y="1828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abels result in th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ax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28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438280"/>
              <a:ext cx="2438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43400" y="5486040"/>
            <a:ext cx="4572000" cy="809640"/>
            <a:chOff x="4343400" y="5486040"/>
            <a:chExt cx="4572000" cy="809640"/>
          </a:xfrm>
        </p:grpSpPr>
        <p:sp>
          <p:nvSpPr>
            <p:cNvPr id="110" name=""/>
            <p:cNvSpPr/>
            <p:nvPr/>
          </p:nvSpPr>
          <p:spPr>
            <a:xfrm>
              <a:off x="6248520" y="5715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abels result in th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ax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33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343400" y="5486040"/>
              <a:ext cx="1905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50800" y="2666880"/>
            <a:ext cx="6240600" cy="145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6520" y="1461960"/>
            <a:ext cx="60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se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3495240"/>
            <a:ext cx="2361960" cy="1647720"/>
            <a:chOff x="533520" y="3495240"/>
            <a:chExt cx="2361960" cy="1647720"/>
          </a:xfrm>
        </p:grpSpPr>
        <p:sp>
          <p:nvSpPr>
            <p:cNvPr id="116" name=""/>
            <p:cNvSpPr/>
            <p:nvPr/>
          </p:nvSpPr>
          <p:spPr>
            <a:xfrm>
              <a:off x="533520" y="45622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e at the end of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371600" y="3495240"/>
              <a:ext cx="144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 is at the en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dy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is un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50800" y="2948040"/>
            <a:ext cx="6240600" cy="1828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8600" y="1447920"/>
            <a:ext cx="53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income t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038480" y="2286000"/>
            <a:ext cx="2438640" cy="1143000"/>
            <a:chOff x="4038480" y="2286000"/>
            <a:chExt cx="2438640" cy="1143000"/>
          </a:xfrm>
        </p:grpSpPr>
        <p:sp>
          <p:nvSpPr>
            <p:cNvPr id="123" name=""/>
            <p:cNvSpPr/>
            <p:nvPr/>
          </p:nvSpPr>
          <p:spPr>
            <a:xfrm>
              <a:off x="4038480" y="228600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2666880"/>
              <a:ext cx="152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962520" y="4419720"/>
            <a:ext cx="3429000" cy="1175400"/>
            <a:chOff x="3962520" y="4419720"/>
            <a:chExt cx="3429000" cy="1175400"/>
          </a:xfrm>
        </p:grpSpPr>
        <p:sp>
          <p:nvSpPr>
            <p:cNvPr id="126" name=""/>
            <p:cNvSpPr/>
            <p:nvPr/>
          </p:nvSpPr>
          <p:spPr>
            <a:xfrm>
              <a:off x="5029200" y="52578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962520" y="4419720"/>
              <a:ext cx="1676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4000" y="1447920"/>
            <a:ext cx="57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5610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ltiple-selection statement to choose among many alternative a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to identify the alternative action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types to represent small and large integ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3048120" y="2590920"/>
            <a:ext cx="4952880" cy="457200"/>
            <a:chOff x="3048120" y="2590920"/>
            <a:chExt cx="4952880" cy="457200"/>
          </a:xfrm>
        </p:grpSpPr>
        <p:sp>
          <p:nvSpPr>
            <p:cNvPr id="136" name=""/>
            <p:cNvSpPr/>
            <p:nvPr/>
          </p:nvSpPr>
          <p:spPr>
            <a:xfrm>
              <a:off x="4800600" y="259092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variables to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48120" y="2895480"/>
              <a:ext cx="1752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657600" y="3733920"/>
            <a:ext cx="4800600" cy="580680"/>
            <a:chOff x="3657600" y="3733920"/>
            <a:chExt cx="4800600" cy="580680"/>
          </a:xfrm>
        </p:grpSpPr>
        <p:sp>
          <p:nvSpPr>
            <p:cNvPr id="139" name=""/>
            <p:cNvSpPr/>
            <p:nvPr/>
          </p:nvSpPr>
          <p:spPr>
            <a:xfrm>
              <a:off x="5562720" y="3733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the year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657600" y="4114800"/>
              <a:ext cx="19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1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00240" y="380880"/>
            <a:ext cx="3353040" cy="580680"/>
            <a:chOff x="4800240" y="380880"/>
            <a:chExt cx="3353040" cy="580680"/>
          </a:xfrm>
        </p:grpSpPr>
        <p:sp>
          <p:nvSpPr>
            <p:cNvPr id="145" name=""/>
            <p:cNvSpPr/>
            <p:nvPr/>
          </p:nvSpPr>
          <p:spPr>
            <a:xfrm>
              <a:off x="6324480" y="3808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800240" y="380880"/>
              <a:ext cx="1523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038480" y="1066320"/>
            <a:ext cx="4572000" cy="1190880"/>
            <a:chOff x="4038480" y="1066320"/>
            <a:chExt cx="4572000" cy="1190880"/>
          </a:xfrm>
        </p:grpSpPr>
        <p:sp>
          <p:nvSpPr>
            <p:cNvPr id="148" name=""/>
            <p:cNvSpPr/>
            <p:nvPr/>
          </p:nvSpPr>
          <p:spPr>
            <a:xfrm>
              <a:off x="6019920" y="167652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1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less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038480" y="106632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114440" y="2286000"/>
            <a:ext cx="4724640" cy="1418760"/>
            <a:chOff x="4114440" y="2286000"/>
            <a:chExt cx="4724640" cy="1418760"/>
          </a:xfrm>
        </p:grpSpPr>
        <p:sp>
          <p:nvSpPr>
            <p:cNvPr id="151" name=""/>
            <p:cNvSpPr/>
            <p:nvPr/>
          </p:nvSpPr>
          <p:spPr>
            <a:xfrm>
              <a:off x="5562720" y="312408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2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114440" y="2286000"/>
              <a:ext cx="3505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38480" y="3885840"/>
            <a:ext cx="3353040" cy="1266840"/>
            <a:chOff x="4038480" y="3885840"/>
            <a:chExt cx="3353040" cy="1266840"/>
          </a:xfrm>
        </p:grpSpPr>
        <p:sp>
          <p:nvSpPr>
            <p:cNvPr id="154" name=""/>
            <p:cNvSpPr/>
            <p:nvPr/>
          </p:nvSpPr>
          <p:spPr>
            <a:xfrm>
              <a:off x="4114800" y="457200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28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5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49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038480" y="3885840"/>
              <a:ext cx="1067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190760" y="1600200"/>
            <a:ext cx="4343760" cy="1114200"/>
            <a:chOff x="4190760" y="1600200"/>
            <a:chExt cx="4343760" cy="1114200"/>
          </a:xfrm>
        </p:grpSpPr>
        <p:sp>
          <p:nvSpPr>
            <p:cNvPr id="160" name=""/>
            <p:cNvSpPr/>
            <p:nvPr/>
          </p:nvSpPr>
          <p:spPr>
            <a:xfrm>
              <a:off x="5257800" y="21337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33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5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99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0760" y="1600200"/>
              <a:ext cx="2057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38120" y="2590560"/>
            <a:ext cx="4420080" cy="1266840"/>
            <a:chOff x="4038120" y="2590560"/>
            <a:chExt cx="4420080" cy="1266840"/>
          </a:xfrm>
        </p:grpSpPr>
        <p:sp>
          <p:nvSpPr>
            <p:cNvPr id="163" name=""/>
            <p:cNvSpPr/>
            <p:nvPr/>
          </p:nvSpPr>
          <p:spPr>
            <a:xfrm>
              <a:off x="6095880" y="32767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e at the end of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038120" y="259056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05320" y="3581280"/>
            <a:ext cx="5105160" cy="947160"/>
            <a:chOff x="3505320" y="3581280"/>
            <a:chExt cx="5105160" cy="947160"/>
          </a:xfrm>
        </p:grpSpPr>
        <p:sp>
          <p:nvSpPr>
            <p:cNvPr id="166" name=""/>
            <p:cNvSpPr/>
            <p:nvPr/>
          </p:nvSpPr>
          <p:spPr>
            <a:xfrm>
              <a:off x="6324480" y="4191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e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505320" y="3581280"/>
              <a:ext cx="3581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438280" y="4571640"/>
            <a:ext cx="3733920" cy="947160"/>
            <a:chOff x="2438280" y="4571640"/>
            <a:chExt cx="3733920" cy="947160"/>
          </a:xfrm>
        </p:grpSpPr>
        <p:sp>
          <p:nvSpPr>
            <p:cNvPr id="169" name=""/>
            <p:cNvSpPr/>
            <p:nvPr/>
          </p:nvSpPr>
          <p:spPr>
            <a:xfrm>
              <a:off x="4038480" y="518148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2438280" y="4571640"/>
              <a:ext cx="198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6856560" cy="25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320" y="685440"/>
            <a:ext cx="4648680" cy="809640"/>
            <a:chOff x="2209320" y="685440"/>
            <a:chExt cx="4648680" cy="809640"/>
          </a:xfrm>
        </p:grpSpPr>
        <p:sp>
          <p:nvSpPr>
            <p:cNvPr id="175" name=""/>
            <p:cNvSpPr/>
            <p:nvPr/>
          </p:nvSpPr>
          <p:spPr>
            <a:xfrm>
              <a:off x="3809880" y="914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an error message if annual salary is not greater than 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09320" y="6854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8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7240" y="1447920"/>
            <a:ext cx="80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prompting the user for a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6880" y="1447920"/>
            <a:ext cx="77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for a $30,000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6880" y="1447920"/>
            <a:ext cx="78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for a $100,000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Multiple-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-selection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ing ex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value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s or a type that can be converted to thes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 character literal, an integer literal or a variable containing a character or integ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a floating-poin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Multiple-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transfers control to the first statement afte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 has n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, execution “falls thr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if no constant expression matches the controlling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cannot contain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with the same constant expression or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trolling expression does not match any constant expression and 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, none of the statements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ody ar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Multiple-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3" name=""/>
          <p:cNvSpPr/>
          <p:nvPr/>
        </p:nvSpPr>
        <p:spPr>
          <a:xfrm>
            <a:off x="2940120" y="1893960"/>
            <a:ext cx="3970440" cy="44416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9997" y="0"/>
                </a:lnTo>
                <a:lnTo>
                  <a:pt x="19997" y="19997"/>
                </a:lnTo>
                <a:lnTo>
                  <a:pt x="0" y="1999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86080" y="1432080"/>
            <a:ext cx="33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2560" y="1461960"/>
            <a:ext cx="67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ltiple-selec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5:42:34Z</dcterms:created>
  <dc:creator>Jeffrey Peng</dc:creator>
  <dc:description/>
  <dc:language>en-US</dc:language>
  <cp:lastModifiedBy>Pearson Education</cp:lastModifiedBy>
  <dcterms:modified xsi:type="dcterms:W3CDTF">2004-10-11T14:10:37Z</dcterms:modified>
  <cp:revision>63</cp:revision>
  <dc:subject/>
  <dc:title>Tutorial 9 – Income Tax Calculator Application: Introducing the switch Multiple-Selection Statement</dc:title>
</cp:coreProperties>
</file>